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1C9-336D-44B5-A099-56CB6DD2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586-E5B9-45D5-B28B-AFE24D3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232-6CAA-49C5-80C8-59C3E9C3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38C-1D52-4DE0-B75A-B07BD027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270-41CD-4CE8-AD42-433FC9D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2B3-0360-4CDC-8BC2-5B90E0A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945-52F6-48C8-AB67-397DAB3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2AD-6558-41BD-8417-0B3B41B7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F71-702B-4B20-8F88-7911E20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A8E-37B3-45A0-BAEB-0451D19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27A-D234-44D7-8ADC-E4FC29C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940-C9DD-4AD9-97B1-51DCEE1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52F-4610-4E81-B786-DADA4073C8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c1c1d"/>
            </a:gs>
            <a:gs pos="100000">
              <a:srgbClr val="000000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274680"/>
            <a:ext cx="85345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Radio Station A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- FM network using a radio wave of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93.4 MHz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(93.4 ×10</a:t>
            </a:r>
            <a:r>
              <a:rPr b="0" lang="en-NZ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6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Hz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Radio Station B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- AM network using a radio wave of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856 kHz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Calculate the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wavelength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of </a:t>
            </a:r>
            <a:r>
              <a:rPr b="0" lang="en-NZ" sz="3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ach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 st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When Zac is standing behind a hill, </a:t>
            </a:r>
            <a:r>
              <a:rPr b="0" lang="en-NZ" sz="3600" spc="-1" strike="noStrike">
                <a:solidFill>
                  <a:srgbClr val="ffff00"/>
                </a:solidFill>
                <a:latin typeface="Calibri"/>
                <a:ea typeface="Calibri"/>
              </a:rPr>
              <a:t>he can only tune into one of the two stations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. Identify which station he can hear and explain why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477720"/>
            <a:ext cx="71629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220px-Wavelength=slitwidthspectrum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38280" y="366696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4647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62320" y="4343400"/>
            <a:ext cx="38019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505320" cy="275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38080" y="2054160"/>
            <a:ext cx="3200400" cy="2289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04920" y="293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ap – maximum diffraction occurs when the wavelength is equal to the size of the ga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04920" y="896760"/>
            <a:ext cx="85341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Diffraction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&amp;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  <a:ea typeface="Calibri"/>
              </a:rPr>
              <a:t>Interference Pattern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9907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762120" y="10652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What would happen if there are </a:t>
            </a:r>
            <a:r>
              <a:rPr b="1" lang="en-NZ" sz="5400" spc="-1" strike="noStrike" u="sng">
                <a:solidFill>
                  <a:srgbClr val="000000"/>
                </a:solidFill>
                <a:uFillTx/>
                <a:latin typeface="Comic Sans MS"/>
              </a:rPr>
              <a:t>two</a:t>
            </a: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 gaps?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3520" y="0"/>
            <a:ext cx="798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9"/>
          <p:cNvSpPr/>
          <p:nvPr/>
        </p:nvSpPr>
        <p:spPr>
          <a:xfrm>
            <a:off x="2743200" y="3429000"/>
            <a:ext cx="38098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Straight Connector 13"/>
          <p:cNvSpPr/>
          <p:nvPr/>
        </p:nvSpPr>
        <p:spPr>
          <a:xfrm flipH="1">
            <a:off x="2819160" y="2590920"/>
            <a:ext cx="3809880" cy="76176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Straight Connector 15"/>
          <p:cNvSpPr/>
          <p:nvPr/>
        </p:nvSpPr>
        <p:spPr>
          <a:xfrm flipH="1" flipV="1">
            <a:off x="2819160" y="3505320"/>
            <a:ext cx="3733560" cy="76176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Straight Connector 17"/>
          <p:cNvSpPr/>
          <p:nvPr/>
        </p:nvSpPr>
        <p:spPr>
          <a:xfrm flipH="1">
            <a:off x="2819160" y="1599480"/>
            <a:ext cx="3809880" cy="160020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Straight Connector 19"/>
          <p:cNvSpPr/>
          <p:nvPr/>
        </p:nvSpPr>
        <p:spPr>
          <a:xfrm flipH="1" flipV="1">
            <a:off x="2895480" y="3580920"/>
            <a:ext cx="3657600" cy="17528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Straight Connector 21"/>
          <p:cNvSpPr/>
          <p:nvPr/>
        </p:nvSpPr>
        <p:spPr>
          <a:xfrm flipH="1">
            <a:off x="2819160" y="2133000"/>
            <a:ext cx="373356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Straight Connector 23"/>
          <p:cNvSpPr/>
          <p:nvPr/>
        </p:nvSpPr>
        <p:spPr>
          <a:xfrm flipH="1">
            <a:off x="3048120" y="2971800"/>
            <a:ext cx="350496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Straight Connector 25"/>
          <p:cNvSpPr/>
          <p:nvPr/>
        </p:nvSpPr>
        <p:spPr>
          <a:xfrm flipH="1" flipV="1">
            <a:off x="2971440" y="3505320"/>
            <a:ext cx="350532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Straight Connector 29"/>
          <p:cNvSpPr/>
          <p:nvPr/>
        </p:nvSpPr>
        <p:spPr>
          <a:xfrm flipH="1" flipV="1">
            <a:off x="2971800" y="3580920"/>
            <a:ext cx="358128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6553080" y="609480"/>
            <a:ext cx="1981440" cy="548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6705720" y="914400"/>
            <a:ext cx="60948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5"/>
          <p:cNvSpPr/>
          <p:nvPr/>
        </p:nvSpPr>
        <p:spPr>
          <a:xfrm>
            <a:off x="7315200" y="906480"/>
            <a:ext cx="1523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6593040" y="838080"/>
            <a:ext cx="18651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ch\Desktop\PHY201\[030] wk9 tue\Doublesli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c1c1d"/>
            </a:gs>
            <a:gs pos="100000">
              <a:srgbClr val="000000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457200" y="274680"/>
            <a:ext cx="83059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  <a:ea typeface="Calibri"/>
              </a:rPr>
              <a:t>Station A:    Wavelength = 3.21 m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  <a:ea typeface="Calibri"/>
              </a:rPr>
              <a:t>Station B:    Wavelength = 350 m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Zac will be able to hear station B because: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  <a:ea typeface="Calibri"/>
              </a:rPr>
              <a:t>the radio waves from Station B have longer wavelength which means it can diffract over the hill better than the radio waves from station A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3520" y="338040"/>
            <a:ext cx="83055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What would happen to the pattern if;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screen is brought clos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two gaps are further apart from each oth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the frequency is increased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57200" y="338040"/>
            <a:ext cx="8458200" cy="61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screen is brought closer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closer together and bright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two gaps are further apart from each other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further apar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f the frequency is increased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Comic Sans MS"/>
              </a:rPr>
              <a:t>The fringes will be further apar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3808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NCEA 2006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04920" y="4689360"/>
            <a:ext cx="86104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: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physics reason why Roy and Sally coul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 the sound of the waves when they were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ting behind a building at the beach, even though they coul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ee the wave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sound waves have a long wavelength. Light waves’ short wavelength means they will not be diffracted. (Meri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52480" y="800280"/>
            <a:ext cx="556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896760"/>
            <a:ext cx="853416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The Properties of Waves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ffrac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28600" y="228600"/>
            <a:ext cx="86868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  <a:ea typeface="Calibri"/>
              </a:rPr>
              <a:t>Diffrac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Bending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 of waves around a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barrier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 or out through a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ga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The longer the wavelength, the more the diffraction of wave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When passing through a gap, maximum diffraction occurs when the wavelength equals the size of the ga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080" y="533520"/>
            <a:ext cx="8967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4132440"/>
            <a:ext cx="4343400" cy="264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752480" y="1889280"/>
            <a:ext cx="5562720" cy="2606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onger the wavelength, the more the diffra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7561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67024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Chu</cp:lastModifiedBy>
  <dcterms:modified xsi:type="dcterms:W3CDTF">2013-03-24T03:55:0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